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AB3-97E6-4D6C-8C8A-59F2FDA02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D24A-53A7-46B3-9D60-1F8447E0C1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B5E-70F4-413E-BE26-7E8BC0CD78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213E-D16B-4CC2-90D3-DCA2834B60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B163-4692-410F-BBD2-1294E2BB25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DBA-51B9-4EF8-B194-F748F68DB1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608-55A3-4AEC-9F3E-9865072D8F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05C-5904-4A87-9232-54100DAB22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3321-A5B2-4D06-82A7-CFE610960F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0E2A-865C-4E0D-861F-B4A20A165D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7C7-1B7C-459A-933A-FF39C743D5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F87-9806-4DA0-82AB-D66C425E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2F5-126B-4A15-A86E-E537BE4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4F6-E0E1-48F8-8FE4-632BABC7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138-102A-477E-A265-9306D519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91B7-562F-4E88-BB60-5CCE9F0C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543-D79E-434E-8FF1-C1FDF9A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1DD-43D5-4AC0-B699-FAF3258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19BA-F925-4FCA-9765-B8ECFB82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E9D-9A3C-4DB1-AA35-68B60D2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DA1D-3EBC-47C9-8ABA-6E38B6C7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FDDE-2E4E-4ED2-A1BD-8764D4B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959-EAD8-46E9-B2FE-3C86611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0BA-062D-42D6-BA39-8D5FF8C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DC0D-0169-4F74-8D56-80D8F70B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E28-C774-4D8C-9E1F-92C222D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8279-FCD3-4582-AB3B-CCA7EAC0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7AC-73D1-4818-A688-A3DF84CB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4BA-20AC-43C8-8189-781F15F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8B3-B570-40BC-8496-7D775DC8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95A-2F6F-4301-96D6-3F89CCB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07F-40D9-42E5-8C58-794FDFB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730-EA97-4467-B66C-10BB7C9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989-4AB2-40E4-BD3F-D289349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B9B-CB00-4449-9551-1E55975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02E-EFCD-4EA1-B066-6923808A7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54E-5836-4E41-88F5-24126B67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nish4teacher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64072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os Números del 1.000 a 1.000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-71640" y="1642680"/>
            <a:ext cx="87865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all you do to say any other number i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7072200" y="632448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172360" cy="1265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l Other Combinations With 1.000, 2.000, 3.000,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42960" y="2286000"/>
            <a:ext cx="15001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.000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5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6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7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8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9.00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143080" y="2214720"/>
            <a:ext cx="178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d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r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uatr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inco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e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ie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uev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14960" y="3286080"/>
            <a:ext cx="33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y other number you already k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ight Brace 8"/>
          <p:cNvSpPr/>
          <p:nvPr/>
        </p:nvSpPr>
        <p:spPr>
          <a:xfrm>
            <a:off x="4214880" y="2214720"/>
            <a:ext cx="785880" cy="321444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3214440"/>
              <a:gd name="textAreaBottom" fmla="*/ 319428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0"/>
                  <a:pt x="10800" y="440"/>
                </a:cubicBezTo>
                <a:lnTo>
                  <a:pt x="10800" y="10360"/>
                </a:lnTo>
                <a:cubicBezTo>
                  <a:pt x="10800" y="10580"/>
                  <a:pt x="16200" y="10800"/>
                  <a:pt x="21600" y="10800"/>
                </a:cubicBezTo>
                <a:cubicBezTo>
                  <a:pt x="16200" y="10800"/>
                  <a:pt x="10800" y="11020"/>
                  <a:pt x="10800" y="11240"/>
                </a:cubicBezTo>
                <a:lnTo>
                  <a:pt x="10800" y="21160"/>
                </a:lnTo>
                <a:cubicBezTo>
                  <a:pt x="10800" y="2138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071800" y="5742000"/>
            <a:ext cx="464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45 = dos mil trescientos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renta y cin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ill we do tod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7138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numbers up to 1.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 numbers from 1.000, 2.000, 3.000,  to 9.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6360" y="115920"/>
            <a:ext cx="5040360" cy="90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47640" y="1101600"/>
            <a:ext cx="244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843280" y="1125360"/>
            <a:ext cx="2448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6">
            <a:hlinkClick r:id="rId1"/>
          </p:cNvPr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0" y="1125360"/>
            <a:ext cx="2448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705640" y="1116000"/>
            <a:ext cx="275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6360" y="115920"/>
            <a:ext cx="5040360" cy="90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95280" y="1197000"/>
            <a:ext cx="2447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-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11640" y="1125360"/>
            <a:ext cx="2448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ent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52280"/>
            <a:ext cx="532944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920" y="1484280"/>
          <a:ext cx="8640720" cy="3657600"/>
        </p:xfrm>
        <a:graphic>
          <a:graphicData uri="http://schemas.openxmlformats.org/drawingml/2006/table">
            <a:tbl>
              <a:tblPr/>
              <a:tblGrid>
                <a:gridCol w="1778040"/>
                <a:gridCol w="3983040"/>
                <a:gridCol w="287964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veint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-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rei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-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uar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-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v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AutoShape 46"/>
          <p:cNvSpPr/>
          <p:nvPr/>
        </p:nvSpPr>
        <p:spPr>
          <a:xfrm>
            <a:off x="5076720" y="5229360"/>
            <a:ext cx="3743280" cy="1368360"/>
          </a:xfrm>
          <a:prstGeom prst="upArrowCallout">
            <a:avLst>
              <a:gd name="adj1" fmla="val 68396"/>
              <a:gd name="adj2" fmla="val 68390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536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ice: the numbers that only form one word are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2195640" y="2276640"/>
            <a:ext cx="30970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2124000" y="2997360"/>
            <a:ext cx="331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0"/>
          <p:cNvSpPr/>
          <p:nvPr/>
        </p:nvSpPr>
        <p:spPr>
          <a:xfrm>
            <a:off x="1979640" y="3789360"/>
            <a:ext cx="367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1"/>
          <p:cNvSpPr/>
          <p:nvPr/>
        </p:nvSpPr>
        <p:spPr>
          <a:xfrm>
            <a:off x="2050920" y="4508640"/>
            <a:ext cx="3600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52"/>
          <p:cNvSpPr/>
          <p:nvPr/>
        </p:nvSpPr>
        <p:spPr>
          <a:xfrm>
            <a:off x="6300720" y="2276640"/>
            <a:ext cx="1871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53"/>
          <p:cNvSpPr/>
          <p:nvPr/>
        </p:nvSpPr>
        <p:spPr>
          <a:xfrm>
            <a:off x="5940360" y="2997360"/>
            <a:ext cx="25923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4"/>
          <p:cNvSpPr/>
          <p:nvPr/>
        </p:nvSpPr>
        <p:spPr>
          <a:xfrm>
            <a:off x="5867280" y="3789360"/>
            <a:ext cx="27370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5"/>
          <p:cNvSpPr/>
          <p:nvPr/>
        </p:nvSpPr>
        <p:spPr>
          <a:xfrm>
            <a:off x="5867280" y="4508640"/>
            <a:ext cx="273708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285920" y="639612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20160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000" y="259920"/>
            <a:ext cx="7667640" cy="90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200, 300, …, 900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148360" y="20606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067280" y="321300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6"/>
          <p:cNvSpPr/>
          <p:nvPr/>
        </p:nvSpPr>
        <p:spPr>
          <a:xfrm flipV="1">
            <a:off x="4427640" y="422064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7"/>
          <p:cNvSpPr/>
          <p:nvPr/>
        </p:nvSpPr>
        <p:spPr>
          <a:xfrm flipV="1">
            <a:off x="4427640" y="429264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796000" y="3860640"/>
            <a:ext cx="25923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careful with these because they are exception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5148360" y="25304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+ ci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908000" y="1284120"/>
            <a:ext cx="3240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do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tre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cuatro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quin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seis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sete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nove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ien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484360" y="587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967120" y="5829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3419640" y="5873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= Mi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63640" y="152280"/>
            <a:ext cx="5329440" cy="8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iew (Repas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4920" y="1484280"/>
          <a:ext cx="8929800" cy="3657600"/>
        </p:xfrm>
        <a:graphic>
          <a:graphicData uri="http://schemas.openxmlformats.org/drawingml/2006/table">
            <a:tbl>
              <a:tblPr/>
              <a:tblGrid>
                <a:gridCol w="1838160"/>
                <a:gridCol w="4116600"/>
                <a:gridCol w="29750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-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ient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-2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o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1-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re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1-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vecient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+ núm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nue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AutoShape 29"/>
          <p:cNvSpPr/>
          <p:nvPr/>
        </p:nvSpPr>
        <p:spPr>
          <a:xfrm>
            <a:off x="5076720" y="5229360"/>
            <a:ext cx="3743280" cy="1368360"/>
          </a:xfrm>
          <a:prstGeom prst="upArrowCallout">
            <a:avLst>
              <a:gd name="adj1" fmla="val 68396"/>
              <a:gd name="adj2" fmla="val 68390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536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: ciento is the ex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2268360" y="2276640"/>
            <a:ext cx="30974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2050920" y="2997360"/>
            <a:ext cx="360072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1908000" y="3716280"/>
            <a:ext cx="381636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979640" y="4508640"/>
            <a:ext cx="3744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6084720" y="4508640"/>
            <a:ext cx="280836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6083280" y="3716280"/>
            <a:ext cx="2736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6084720" y="2997360"/>
            <a:ext cx="2808360" cy="50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6083280" y="2276640"/>
            <a:ext cx="273672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285920" y="639612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333360"/>
            <a:ext cx="8172720" cy="907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000, 2.000, 3.000, 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353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learn the numbers from 1.000- 9.999, we must first learn the ones ending in tw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ERO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which ones?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1341000"/>
            <a:ext cx="259236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000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.000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-360" y="189000"/>
            <a:ext cx="8172360" cy="907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.000, 2.000, 3.000,…, 9.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148360" y="20606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c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148360" y="2530440"/>
            <a:ext cx="33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+ m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916360" y="1197000"/>
            <a:ext cx="324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d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tr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cuatr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cinc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e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iet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oc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nuev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 mill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929280" y="632448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Spanish</a:t>
            </a:r>
            <a:r>
              <a:rPr b="1" lang="en-US" sz="2400" spc="-1" strike="noStrike">
                <a:solidFill>
                  <a:srgbClr val="ff0000"/>
                </a:solidFill>
                <a:latin typeface="Chiller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Teachers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44:45Z</dcterms:created>
  <dc:creator>Spanish4Teachers.org</dc:creator>
  <dc:description/>
  <dc:language>en-US</dc:language>
  <cp:lastModifiedBy>Jessica Kaplan</cp:lastModifiedBy>
  <dcterms:modified xsi:type="dcterms:W3CDTF">2015-04-28T19:59:08Z</dcterms:modified>
  <cp:revision>50</cp:revision>
  <dc:subject>Spanish</dc:subject>
  <dc:title>Los Números en Español</dc:title>
</cp:coreProperties>
</file>